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4.jpeg" ContentType="image/jpeg"/>
  <Override PartName="/ppt/media/image28.wmf" ContentType="image/x-wmf"/>
  <Override PartName="/ppt/media/image30.wmf" ContentType="image/x-wmf"/>
  <Override PartName="/ppt/media/image23.wmf" ContentType="image/x-wmf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media/image19.jpeg" ContentType="image/jpeg"/>
  <Override PartName="/ppt/media/image29.wmf" ContentType="image/x-wmf"/>
  <Override PartName="/ppt/media/image20.jpeg" ContentType="image/jpeg"/>
  <Override PartName="/ppt/media/image22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072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br>
              <a:rPr sz="2800"/>
            </a:b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1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рганска хемија 2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1" i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хемија незасићених и цикличних једињења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ује 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емијским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емијском корелацијом са једињењима познате конфигу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учавањем стереохемије олефинских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ким метод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пут- циклизационе реакције или претварање цикличних једињења у олефинске дерив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малеинска и фумарн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538200" y="2852640"/>
            <a:ext cx="80676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3960" y="1341360"/>
            <a:ext cx="82296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корелација са једињењима познате конфигу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редукција помоћ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l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 стереоизо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49440" y="3500280"/>
            <a:ext cx="8028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мет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ређивање диполних мо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ектроскопски под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eft Brace 2"/>
          <p:cNvSpPr/>
          <p:nvPr/>
        </p:nvSpPr>
        <p:spPr>
          <a:xfrm flipV="1" rot="16200000">
            <a:off x="1526760" y="4342680"/>
            <a:ext cx="617400" cy="1297080"/>
          </a:xfrm>
          <a:custGeom>
            <a:avLst/>
            <a:gdLst>
              <a:gd name="textAreaLeft" fmla="*/ 394560 w 617400"/>
              <a:gd name="textAreaRight" fmla="*/ 617760 w 617400"/>
              <a:gd name="textAreaTop" fmla="*/ 15840 h 1297080"/>
              <a:gd name="textAreaBottom" fmla="*/ 128124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9"/>
                  <a:pt x="10800" y="857"/>
                </a:cubicBezTo>
                <a:lnTo>
                  <a:pt x="10800" y="9943"/>
                </a:lnTo>
                <a:cubicBezTo>
                  <a:pt x="10800" y="10372"/>
                  <a:pt x="5400" y="10800"/>
                  <a:pt x="0" y="10800"/>
                </a:cubicBezTo>
                <a:cubicBezTo>
                  <a:pt x="5400" y="10800"/>
                  <a:pt x="10800" y="11229"/>
                  <a:pt x="10800" y="11657"/>
                </a:cubicBezTo>
                <a:lnTo>
                  <a:pt x="10800" y="20743"/>
                </a:lnTo>
                <a:cubicBezTo>
                  <a:pt x="10800" y="2117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eft Brace 4"/>
          <p:cNvSpPr/>
          <p:nvPr/>
        </p:nvSpPr>
        <p:spPr>
          <a:xfrm flipV="1" rot="16200000">
            <a:off x="6988680" y="4343400"/>
            <a:ext cx="617400" cy="1295640"/>
          </a:xfrm>
          <a:custGeom>
            <a:avLst/>
            <a:gdLst>
              <a:gd name="textAreaLeft" fmla="*/ 394560 w 617400"/>
              <a:gd name="textAreaRight" fmla="*/ 617760 w 617400"/>
              <a:gd name="textAreaTop" fmla="*/ 15840 h 1295640"/>
              <a:gd name="textAreaBottom" fmla="*/ 12798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9"/>
                  <a:pt x="10800" y="858"/>
                </a:cubicBezTo>
                <a:lnTo>
                  <a:pt x="10800" y="9942"/>
                </a:lnTo>
                <a:cubicBezTo>
                  <a:pt x="10800" y="10371"/>
                  <a:pt x="5400" y="10800"/>
                  <a:pt x="0" y="10800"/>
                </a:cubicBezTo>
                <a:cubicBezTo>
                  <a:pt x="5400" y="10800"/>
                  <a:pt x="10800" y="11229"/>
                  <a:pt x="10800" y="11658"/>
                </a:cubicBezTo>
                <a:lnTo>
                  <a:pt x="10800" y="20742"/>
                </a:lnTo>
                <a:cubicBezTo>
                  <a:pt x="10800" y="211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69228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елни и супротни диполни мо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611028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неарни и супротни диполни мо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rcRect l="0" t="0" r="3810" b="54938"/>
          <a:stretch/>
        </p:blipFill>
        <p:spPr>
          <a:xfrm>
            <a:off x="539640" y="2828880"/>
            <a:ext cx="77979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фумар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590840" y="1857240"/>
            <a:ext cx="59623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ом дифракцијом одређује се растојање између разних супституената у молек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 је растојање између две групе мање него код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566640" y="3645000"/>
            <a:ext cx="81439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2"/>
          <p:cNvSpPr/>
          <p:nvPr/>
        </p:nvSpPr>
        <p:spPr>
          <a:xfrm>
            <a:off x="1332000" y="53593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4"/>
          <p:cNvSpPr/>
          <p:nvPr/>
        </p:nvSpPr>
        <p:spPr>
          <a:xfrm>
            <a:off x="7308720" y="472428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а зависи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ореда шаржи (полариз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 интеракциј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на са електронским системима у супституен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 међусобног (стерног) дејства супститу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та је стабилниј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is</a:t>
            </a:r>
            <a:r>
              <a:rPr b="1" i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1" i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бл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стереоизомери се по физичким особинама углавном разликују у тачки топљења и раствор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ик се због своје симетрије лакше уклапа у кристалну решетку, па има вишу тачки топљења и теже је растворљив од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за тачку кључања, густину и индекс преламања не важи овакво прави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ђењем енергије једа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 се може превести у други, тако што прво долази до раскидања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их орбитала (хомолитички или хетеролитички), што може да доведе до делимичне или потпуне ротације око једнострук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новном успостављањ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е орбитале поред полазног настаје и његов геометријски из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75963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варање лабилног у стабилнији дијастереоизомер се најчешће врши уз помоћ катализатора (слободни радикал) или загрев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нуто, претварање стабилног у нестабилан облик је много теже и могуће је само применом ултравиолетног зра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41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изомерија на двогубим везама угљеник-азот и азот-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539640" y="1749600"/>
            <a:ext cx="7632720" cy="2933640"/>
          </a:xfrm>
          <a:prstGeom prst="rect">
            <a:avLst/>
          </a:prstGeom>
          <a:ln w="9360">
            <a:solidFill>
              <a:srgbClr val="fdfdfd"/>
            </a:solidFill>
            <a:miter/>
          </a:ln>
        </p:spPr>
      </p:pic>
      <p:sp>
        <p:nvSpPr>
          <p:cNvPr id="96" name="Left Brace 2"/>
          <p:cNvSpPr/>
          <p:nvPr/>
        </p:nvSpPr>
        <p:spPr>
          <a:xfrm rot="16200000">
            <a:off x="1222920" y="4271040"/>
            <a:ext cx="504720" cy="1297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12960 h 1297080"/>
              <a:gd name="textAreaBottom" fmla="*/ 12841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1"/>
                  <a:pt x="10800" y="701"/>
                </a:cubicBezTo>
                <a:lnTo>
                  <a:pt x="10800" y="10099"/>
                </a:lnTo>
                <a:cubicBezTo>
                  <a:pt x="10800" y="10450"/>
                  <a:pt x="5400" y="10800"/>
                  <a:pt x="0" y="10800"/>
                </a:cubicBezTo>
                <a:cubicBezTo>
                  <a:pt x="5400" y="10800"/>
                  <a:pt x="10800" y="11151"/>
                  <a:pt x="10800" y="11501"/>
                </a:cubicBezTo>
                <a:lnTo>
                  <a:pt x="10800" y="20899"/>
                </a:lnTo>
                <a:cubicBezTo>
                  <a:pt x="10800" y="212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eft Brace 5"/>
          <p:cNvSpPr/>
          <p:nvPr/>
        </p:nvSpPr>
        <p:spPr>
          <a:xfrm rot="16200000">
            <a:off x="3947400" y="4320360"/>
            <a:ext cx="503280" cy="1295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960 h 1295280"/>
              <a:gd name="textAreaBottom" fmla="*/ 1282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699"/>
                </a:cubicBezTo>
                <a:lnTo>
                  <a:pt x="10800" y="10101"/>
                </a:lnTo>
                <a:cubicBezTo>
                  <a:pt x="10800" y="10451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499"/>
                </a:cubicBezTo>
                <a:lnTo>
                  <a:pt x="10800" y="20901"/>
                </a:lnTo>
                <a:cubicBezTo>
                  <a:pt x="10800" y="2125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eft Brace 6"/>
          <p:cNvSpPr/>
          <p:nvPr/>
        </p:nvSpPr>
        <p:spPr>
          <a:xfrm rot="16200000">
            <a:off x="6944400" y="4287240"/>
            <a:ext cx="503280" cy="1295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960 h 1295280"/>
              <a:gd name="textAreaBottom" fmla="*/ 1282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699"/>
                </a:cubicBezTo>
                <a:lnTo>
                  <a:pt x="10800" y="10101"/>
                </a:lnTo>
                <a:cubicBezTo>
                  <a:pt x="10800" y="10451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499"/>
                </a:cubicBezTo>
                <a:lnTo>
                  <a:pt x="10800" y="20901"/>
                </a:lnTo>
                <a:cubicBezTo>
                  <a:pt x="10800" y="2125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900000" y="5095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окс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445800" y="51325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-једињ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3593520" y="51195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окс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262080" y="5904000"/>
            <a:ext cx="86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са трогубом везом не могу показивати геометријск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изомерија код незасићених једињења са двогубим вез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нтиомерија код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rcRect l="15457" t="3302" r="9075" b="4320"/>
          <a:stretch/>
        </p:blipFill>
        <p:spPr>
          <a:xfrm>
            <a:off x="401760" y="1623960"/>
            <a:ext cx="4392360" cy="4033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25892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нтиомери настали услед молекулске дисимет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rcRect l="47441" t="986" r="8031" b="1538"/>
          <a:stretch/>
        </p:blipFill>
        <p:spPr>
          <a:xfrm>
            <a:off x="5435640" y="1289160"/>
            <a:ext cx="293040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rcRect l="2165" t="0" r="52260" b="3908"/>
          <a:stretch/>
        </p:blipFill>
        <p:spPr>
          <a:xfrm>
            <a:off x="5405400" y="3381480"/>
            <a:ext cx="2871720" cy="2030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477720" y="5904000"/>
            <a:ext cx="76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нтиомери код алена, стирена, дифенила потичу од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е дисиметрије, а не од асиметричног С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хемија цикличних једињ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1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изомерија се јавља и код цикличних једињења, због крутог прстенастог система који замењује двоструку везу и дефинише главну раван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фичком приказу водоников атом везан за угљеник се обично изоставља, а метил група као супституент се обележава простом везом (помоћу црти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042920" y="3059280"/>
            <a:ext cx="69138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цикличних једињења геометријска изомерија је често везана и за енантиомерију, због присуства једног или више асиметричних угљеникових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971640" y="2658960"/>
            <a:ext cx="685800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457200" y="4394160"/>
            <a:ext cx="28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уј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ује енантиомериј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708360" y="436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уј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 енантиомериј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356680" cy="47512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271440" y="1413000"/>
            <a:ext cx="86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различита или два једнака негеминална супститу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2664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упституисана циклична једињења са парним бројем чланова у прст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52360" y="2133720"/>
            <a:ext cx="8639280" cy="1657080"/>
          </a:xfrm>
          <a:prstGeom prst="rect">
            <a:avLst/>
          </a:prstGeom>
          <a:ln w="0">
            <a:noFill/>
          </a:ln>
        </p:spPr>
      </p:pic>
      <p:sp>
        <p:nvSpPr>
          <p:cNvPr id="120" name="Left Brace 4"/>
          <p:cNvSpPr/>
          <p:nvPr/>
        </p:nvSpPr>
        <p:spPr>
          <a:xfrm rot="16200000">
            <a:off x="4062240" y="37800"/>
            <a:ext cx="792360" cy="8002440"/>
          </a:xfrm>
          <a:custGeom>
            <a:avLst/>
            <a:gdLst>
              <a:gd name="textAreaLeft" fmla="*/ 506160 w 792360"/>
              <a:gd name="textAreaRight" fmla="*/ 792720 w 792360"/>
              <a:gd name="textAreaTop" fmla="*/ 20520 h 8002440"/>
              <a:gd name="textAreaBottom" fmla="*/ 7981920 h 800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8"/>
                </a:cubicBezTo>
                <a:lnTo>
                  <a:pt x="10800" y="10622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8"/>
                </a:cubicBezTo>
                <a:lnTo>
                  <a:pt x="10800" y="21422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517760" y="4424400"/>
            <a:ext cx="65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ују енантиомерију (имају две или више равни симетр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442800" y="4923000"/>
            <a:ext cx="2522520" cy="16524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8"/>
          <p:cNvCxnSpPr/>
          <p:nvPr/>
        </p:nvCxnSpPr>
        <p:spPr>
          <a:xfrm>
            <a:off x="2471760" y="5770440"/>
            <a:ext cx="11642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TextBox 11"/>
          <p:cNvSpPr/>
          <p:nvPr/>
        </p:nvSpPr>
        <p:spPr>
          <a:xfrm>
            <a:off x="3706920" y="55054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ује оптички активност услед </a:t>
            </a:r>
            <a:br>
              <a:rPr sz="1800"/>
            </a:b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 центра симет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конфигурације цикличних стереоизом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се не разликују битно од метода које се употребљавају код ацикличних једињења, осим што се деградацијом (отварањем прстена) или синтезом (затварање прстена) испитивани центар доводи у стереохемијску везу са једињењем познате апсолутне конфигу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рају се реакције које не мењају конфир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е врши хемијским путем или на основу физичких ос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мет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врђивање могућности разлагања једињења на оптички активне обл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нтеза једињења из оптички активног полазног матер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а затварања прсте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онстанте које се користе у одређивању су густина, индекс преламања, тачка кључања, диполни моме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бити обазрив код одређивања конфигурације на основу физичких констант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стабил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емијска стабилност (унутрашња енергија супстанце, енталп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ка стабилност (мера слободне енерг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чка стабилност (брзина са којом се стварају органск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емијска стабилност прстенова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ни нап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упање од тетраедарског угла изазива нап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чекује се да већи прстенови трпе и већи напон, али је топлота сагоревања показала да то није случ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ови код циклопентана  (108</a:t>
            </a:r>
            <a:r>
              <a:rPr b="0" lang="sr-B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о вредностима су приближни тетраедарском углу и циклопентан трпи мањи  нап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yer-</a:t>
            </a:r>
            <a:r>
              <a:rPr b="0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теорија нап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000" y="200952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ешна претпоста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и прстенови у равни (планарни) са угловима који одговарају правилном троуглу, четвороуглу, петоугл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раво већи прстенови нису планарни већ „набрани“ тако да им угао везе задржава вредности тетраедарских уг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ни напон код малих прстенова се јавља због отежаног преклапања 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ованих орб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2411280" y="4795920"/>
          <a:ext cx="388944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795920"/>
                    <a:ext cx="388944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530520" y="2131920"/>
            <a:ext cx="2286000" cy="38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1763640" y="2781360"/>
            <a:ext cx="1479600" cy="58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НА ИЗОМЕ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5508720" y="2781360"/>
            <a:ext cx="1479600" cy="587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ОРНА ИЗОМЕ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7"/>
          <p:cNvCxnSpPr/>
          <p:nvPr/>
        </p:nvCxnSpPr>
        <p:spPr>
          <a:xfrm flipH="1">
            <a:off x="2986920" y="2491920"/>
            <a:ext cx="1080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Straight Arrow Connector 9"/>
          <p:cNvCxnSpPr/>
          <p:nvPr/>
        </p:nvCxnSpPr>
        <p:spPr>
          <a:xfrm>
            <a:off x="4467240" y="2491920"/>
            <a:ext cx="12578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Text Box 4"/>
          <p:cNvSpPr/>
          <p:nvPr/>
        </p:nvSpPr>
        <p:spPr>
          <a:xfrm>
            <a:off x="479520" y="3573360"/>
            <a:ext cx="1334880" cy="5875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МЕРИЈА Н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4"/>
          <p:cNvCxnSpPr/>
          <p:nvPr/>
        </p:nvCxnSpPr>
        <p:spPr>
          <a:xfrm flipH="1">
            <a:off x="1186920" y="3212640"/>
            <a:ext cx="937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Text Box 5"/>
          <p:cNvSpPr/>
          <p:nvPr/>
        </p:nvSpPr>
        <p:spPr>
          <a:xfrm>
            <a:off x="2624040" y="3645000"/>
            <a:ext cx="1479600" cy="587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МЕРИЈА ПОЛОЖА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06600" y="4481640"/>
            <a:ext cx="1736640" cy="587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УНКЦИОНАЛНА ИЗОМЕ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8"/>
          <p:cNvCxnSpPr/>
          <p:nvPr/>
        </p:nvCxnSpPr>
        <p:spPr>
          <a:xfrm>
            <a:off x="2623680" y="3212640"/>
            <a:ext cx="7405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Straight Arrow Connector 20"/>
          <p:cNvCxnSpPr/>
          <p:nvPr/>
        </p:nvCxnSpPr>
        <p:spPr>
          <a:xfrm>
            <a:off x="2364840" y="3290760"/>
            <a:ext cx="108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 Box 7"/>
          <p:cNvSpPr/>
          <p:nvPr/>
        </p:nvSpPr>
        <p:spPr>
          <a:xfrm>
            <a:off x="6588000" y="3645000"/>
            <a:ext cx="2371680" cy="587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ЈАСТЕРЕОИЗОМЕ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724280" y="3645000"/>
            <a:ext cx="1479600" cy="587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ТИЧКА ИЗОМЕ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4"/>
          <p:cNvCxnSpPr/>
          <p:nvPr/>
        </p:nvCxnSpPr>
        <p:spPr>
          <a:xfrm flipH="1">
            <a:off x="5463720" y="3240000"/>
            <a:ext cx="57240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Straight Arrow Connector 26"/>
          <p:cNvCxnSpPr/>
          <p:nvPr/>
        </p:nvCxnSpPr>
        <p:spPr>
          <a:xfrm>
            <a:off x="6588000" y="3213000"/>
            <a:ext cx="6483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напон прстена је комбин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орзионог нап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гаоног нап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про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16280"/>
            <a:ext cx="5338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ланаран прс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и Н атоми се налазе у еклипсном положају (торзиони нап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 постоји ротација око С-С везе која би омогућила степенасту конформ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ао између С атома износи 60</a:t>
            </a:r>
            <a:r>
              <a:rPr b="0" lang="sr-B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то онемогућава колинеарнос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клашање орбитала под углом од 104</a:t>
            </a:r>
            <a:r>
              <a:rPr b="0" lang="sr-B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оди до угаоног нап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ома реактиван прс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5580000" y="1773360"/>
          <a:ext cx="345600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773360"/>
                    <a:ext cx="34560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бута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16280"/>
            <a:ext cx="5554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планаран, већ набран под углом од 26</a:t>
            </a:r>
            <a:r>
              <a:rPr b="0" lang="sr-B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тоји ротација око С-С везе       инверзија из једне конформације у д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ао С-С везе је 88,5</a:t>
            </a:r>
            <a:r>
              <a:rPr b="0" lang="sr-B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ступање од планар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еклипсни нап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ни напон знатно мањи него код циклопроп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ње реактиван од циклопроп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4"/>
          <p:cNvCxnSpPr/>
          <p:nvPr/>
        </p:nvCxnSpPr>
        <p:spPr>
          <a:xfrm>
            <a:off x="4642920" y="299700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44" name="Object 1"/>
          <p:cNvGraphicFramePr/>
          <p:nvPr/>
        </p:nvGraphicFramePr>
        <p:xfrm>
          <a:off x="6084720" y="1989000"/>
          <a:ext cx="237492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989000"/>
                    <a:ext cx="23749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6"/>
          <p:cNvGraphicFramePr/>
          <p:nvPr/>
        </p:nvGraphicFramePr>
        <p:xfrm>
          <a:off x="6300720" y="3860640"/>
          <a:ext cx="2017800" cy="23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3860640"/>
                    <a:ext cx="2017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пента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916280"/>
            <a:ext cx="526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нутрашњи угао петоугла од 108</a:t>
            </a:r>
            <a:r>
              <a:rPr b="0" lang="sr-B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коро као код тетрае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је планаран, већ набран, савиј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едује две конформације које брзо прелазе једна у д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е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сто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 реакт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1"/>
          <p:cNvGraphicFramePr/>
          <p:nvPr/>
        </p:nvGraphicFramePr>
        <p:xfrm>
          <a:off x="5724360" y="4221000"/>
          <a:ext cx="2951280" cy="15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4221000"/>
                    <a:ext cx="2951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"/>
          <p:cNvGraphicFramePr/>
          <p:nvPr/>
        </p:nvGraphicFramePr>
        <p:xfrm>
          <a:off x="6012000" y="1844640"/>
          <a:ext cx="2447640" cy="16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1844640"/>
                    <a:ext cx="244764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хекс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014200"/>
            <a:ext cx="5627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је планаран, скоро без угаоног нап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форм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ђ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јстабилнија је конформација сто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ва типа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јалне (а)-паралелне на главну осу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аторијалне (е)-нормалне на главну осу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ли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6156360" y="2205000"/>
          <a:ext cx="23842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205000"/>
                    <a:ext cx="23842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8" name="Curved Connector 5"/>
          <p:cNvCxnSpPr/>
          <p:nvPr/>
        </p:nvCxnSpPr>
        <p:spPr>
          <a:xfrm flipH="1" flipV="1" rot="5400000">
            <a:off x="8106840" y="2175120"/>
            <a:ext cx="432720" cy="3610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Curved Connector 7"/>
          <p:cNvCxnSpPr/>
          <p:nvPr/>
        </p:nvCxnSpPr>
        <p:spPr>
          <a:xfrm>
            <a:off x="8027640" y="3428640"/>
            <a:ext cx="4770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Box 12"/>
          <p:cNvSpPr/>
          <p:nvPr/>
        </p:nvSpPr>
        <p:spPr>
          <a:xfrm>
            <a:off x="8143920" y="184464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</a:rPr>
              <a:t>111,4</a:t>
            </a:r>
            <a:r>
              <a:rPr b="0" lang="sr-BA" sz="1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14"/>
          <p:cNvGraphicFramePr/>
          <p:nvPr/>
        </p:nvGraphicFramePr>
        <p:xfrm>
          <a:off x="6191280" y="4724280"/>
          <a:ext cx="2403360" cy="169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1280" y="4724280"/>
                    <a:ext cx="240336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Box 15"/>
          <p:cNvSpPr/>
          <p:nvPr/>
        </p:nvSpPr>
        <p:spPr>
          <a:xfrm>
            <a:off x="8291520" y="3603600"/>
            <a:ext cx="8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</a:rPr>
              <a:t>107,5</a:t>
            </a:r>
            <a:r>
              <a:rPr b="0" lang="sr-BA" sz="1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17"/>
          <p:cNvCxnSpPr/>
          <p:nvPr/>
        </p:nvCxnSpPr>
        <p:spPr>
          <a:xfrm flipH="1">
            <a:off x="7392240" y="4508280"/>
            <a:ext cx="2754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19"/>
          <p:cNvSpPr/>
          <p:nvPr/>
        </p:nvSpPr>
        <p:spPr>
          <a:xfrm>
            <a:off x="7658280" y="4300560"/>
            <a:ext cx="121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200" spc="-1" strike="noStrike">
                <a:solidFill>
                  <a:srgbClr val="000000"/>
                </a:solidFill>
                <a:latin typeface="Times New Roman"/>
              </a:rPr>
              <a:t>оса молек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хек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циклохекс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1116000" y="3213000"/>
          <a:ext cx="6985080" cy="20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13000"/>
                    <a:ext cx="6985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Box 5"/>
          <p:cNvSpPr/>
          <p:nvPr/>
        </p:nvSpPr>
        <p:spPr>
          <a:xfrm>
            <a:off x="1979640" y="54579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</a:rPr>
              <a:t>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084720" y="54878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</a:rPr>
              <a:t>ла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изомерија дисупституисаних алк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упституисани циклоалкани код којих су супституенти на различитим С атомима посед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пституенти са исте стране прст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пституенти са различите стране прст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 се једино раскидањем везе могу претворити један у другог-</a:t>
            </a:r>
            <a:r>
              <a:rPr b="0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јастереоизо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изомерија дисупституисаних алк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1403280" y="1989000"/>
          <a:ext cx="604836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04836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Box 4"/>
          <p:cNvSpPr/>
          <p:nvPr/>
        </p:nvSpPr>
        <p:spPr>
          <a:xfrm>
            <a:off x="5292720" y="2538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</a:rPr>
              <a:t>1,2-диметилциклохекс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Curved Connector 6"/>
          <p:cNvCxnSpPr/>
          <p:nvPr/>
        </p:nvCxnSpPr>
        <p:spPr>
          <a:xfrm flipV="1" rot="10800000">
            <a:off x="2555280" y="3463560"/>
            <a:ext cx="460800" cy="186480"/>
          </a:xfrm>
          <a:prstGeom prst="curvedConnector5">
            <a:avLst>
              <a:gd name="adj1" fmla="val 49960"/>
              <a:gd name="adj2" fmla="val 49903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Curved Connector 14"/>
          <p:cNvCxnSpPr/>
          <p:nvPr/>
        </p:nvCxnSpPr>
        <p:spPr>
          <a:xfrm flipV="1" rot="10800000">
            <a:off x="2799720" y="3690000"/>
            <a:ext cx="432360" cy="221400"/>
          </a:xfrm>
          <a:prstGeom prst="curvedConnector5">
            <a:avLst>
              <a:gd name="adj1" fmla="val 37166"/>
              <a:gd name="adj2" fmla="val 50000"/>
              <a:gd name="adj3" fmla="val 37166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0" name="TextBox 16"/>
          <p:cNvSpPr/>
          <p:nvPr/>
        </p:nvSpPr>
        <p:spPr>
          <a:xfrm>
            <a:off x="3232080" y="35384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3016080" y="327960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Curved Connector 21"/>
          <p:cNvCxnSpPr/>
          <p:nvPr/>
        </p:nvCxnSpPr>
        <p:spPr>
          <a:xfrm rot="10800000">
            <a:off x="6624000" y="3556800"/>
            <a:ext cx="684720" cy="354960"/>
          </a:xfrm>
          <a:prstGeom prst="curvedConnector5">
            <a:avLst>
              <a:gd name="adj1" fmla="val 49973"/>
              <a:gd name="adj2" fmla="val 49949"/>
              <a:gd name="adj3" fmla="val 4997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Curved Connector 23"/>
          <p:cNvCxnSpPr/>
          <p:nvPr/>
        </p:nvCxnSpPr>
        <p:spPr>
          <a:xfrm rot="5400000">
            <a:off x="6776280" y="4410000"/>
            <a:ext cx="721440" cy="343440"/>
          </a:xfrm>
          <a:prstGeom prst="curvedConnector5">
            <a:avLst>
              <a:gd name="adj1" fmla="val 49975"/>
              <a:gd name="adj2" fmla="val 49947"/>
              <a:gd name="adj3" fmla="val 4997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24"/>
          <p:cNvSpPr/>
          <p:nvPr/>
        </p:nvSpPr>
        <p:spPr>
          <a:xfrm>
            <a:off x="7308720" y="396396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стереоизомериј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-tra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ција око двогубе везе је спречена, систем је к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последица спречене ротације око двогубе везе јавља се посебна врста изомерије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-tran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или геометријска изом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43923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бар по једна група на сваком незасићеном С атому једнака, дијастереоизомери се означавају са  префикс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дијастереоизомери код којих су једнаке групе на истој страни, 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стереоизомери код којих су исте групе са супротне стране двострук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rcRect l="0" t="0" r="2691" b="26996"/>
          <a:stretch/>
        </p:blipFill>
        <p:spPr>
          <a:xfrm>
            <a:off x="1177920" y="3659040"/>
            <a:ext cx="66643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номенклатура се не употребљава кад су сва четири супституента различита, али кад су један или два пара супституената слични, онда се ипак може употреб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92240" y="3573360"/>
            <a:ext cx="8759520" cy="15433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2"/>
          <p:cNvSpPr/>
          <p:nvPr/>
        </p:nvSpPr>
        <p:spPr>
          <a:xfrm>
            <a:off x="250920" y="472428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4"/>
          <p:cNvSpPr/>
          <p:nvPr/>
        </p:nvSpPr>
        <p:spPr>
          <a:xfrm>
            <a:off x="2771640" y="472428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6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7524720" y="4724280"/>
            <a:ext cx="142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дијастереоизомери код олефинских једињења показују оптичку активно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рганских једињења која садрже више двоструких веза које задовољавају услов з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у број дијастереоизомера се повећ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826920" y="3213000"/>
            <a:ext cx="67694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употреб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а треба разликовати да ли се ради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еоизомерији целог незасиће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жају супституената на двострукој в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цу адиционих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rcRect l="12323" t="1323" r="5126" b="2152"/>
          <a:stretch/>
        </p:blipFill>
        <p:spPr>
          <a:xfrm>
            <a:off x="2411280" y="3284640"/>
            <a:ext cx="4897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лекула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титу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ста, број и редослед везивања атома у молеку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игура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сторни распоред атома у молекулу који се (углавном) не може мењати без раскидања постојећих и успостављања нових хемијских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na</cp:lastModifiedBy>
  <dcterms:modified xsi:type="dcterms:W3CDTF">2016-09-05T23:59:46Z</dcterms:modified>
  <cp:revision>295</cp:revision>
  <dc:subject/>
  <dc:title>Slide 1</dc:title>
</cp:coreProperties>
</file>